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94F7-6327-49B1-B9F5-09952B80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B7E-2DDD-4021-B5FC-2B284732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6325-0BF3-452D-B526-4C77F6E8E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e 7 categories in the Stages of Co-Teaching (self-assessment).  Have participants do this individually.  Afterwards, have them complete the reflection on the bottom of the sheet about what it means for them and where they are on th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6DE-11A5-4BB8-B6F2-005FD0CE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B7C3-9F2A-4F16-B907-DB4D0961A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Refer teachers to back of Stages of Co-Teaching Handout…If one of you is doing this…the other can be doing this…Have them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art paper at their table…think of their own experiences/Challenge them to come up with 3 more examples(If…THEN) for co-teachers…share out a fe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dea…everyone is working to meet the needs of the students…no idle hands or min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93C7-48CF-4B3D-8C59-EFEE07E6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(KELLY) Have participants find a partner (general ed with special ed).  Have students will go to the wikispace to go to the website (for sample co-teaching lesson plans).  Explain the note-taking sheet and how they are to use it in the la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eachers hang their metap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59E-03E1-42FE-9560-34EA1A95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Inspiration/brainstorm as a group (Kelly) One teach/One ass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aved template to make a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E32-EDBA-4473-99BC-3AFF69F2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KELLY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person’s lesson plan / co-teaching planning form (use IEPs from both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1766-0EC6-4A22-8B14-683EC1625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4F37-3041-458E-ACBD-C0FE84F3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8F25-CB6E-407C-81D3-3F7D1099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1B8A-1D2A-4CE3-B02A-0E0FF38DF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3DA8-C4D9-457F-A320-A067711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6BE8-C14B-4586-9301-BD80445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5428-48DC-4AA2-BD44-4EED7E37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26C1-DD51-44A1-996A-04724CC2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5FEF-7C89-4B62-B80D-8C8F2C67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7D86-5548-407F-830E-BF8500F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0F1C-E924-4ACB-B961-C02C5954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6037-8A93-472A-9580-4913EC7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red-sports-car2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teachllc.com/less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aiandra GD"/>
              </a:rPr>
              <a:t>Warm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ink of a verbal or non-verbal strategy from last class that you tried within the last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hat did you do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ow did it work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What other strategies would you like to try and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7621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ges of Co-Teac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red-sports-car2"/>
          <p:cNvPicPr/>
          <p:nvPr/>
        </p:nvPicPr>
        <p:blipFill>
          <a:blip r:embed="rId1"/>
          <a:stretch/>
        </p:blipFill>
        <p:spPr>
          <a:xfrm>
            <a:off x="4724280" y="350532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ssion 4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stages of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over the other sides of co-teach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r perspective + theirs = shared understan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ore co-teaching lesson pla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llaboratively discuss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F…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e teacher is doing th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other teacher can be doing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28600" y="304920"/>
            <a:ext cx="86104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ab/Lesson Plan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2teachllc.com/lesson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6680" y="380880"/>
          <a:ext cx="5639040" cy="3618000"/>
        </p:xfrm>
        <a:graphic>
          <a:graphicData uri="http://schemas.openxmlformats.org/drawingml/2006/table">
            <a:tbl>
              <a:tblPr/>
              <a:tblGrid>
                <a:gridCol w="2576520"/>
                <a:gridCol w="3062520"/>
              </a:tblGrid>
              <a:tr h="1033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Planning Pract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t teacher Lesson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EP from both 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plan using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acher Lesson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IEP from both tea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plan using t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on 4-8-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eflective journal posted to Wiki under session 3 about communication and collaboration techniques you tried and how they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on 4-15-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corporate various models of co-teaching into an upcoming lesson plan-post a reflective journal on week 4 on wiki about the model(s)  you chose, why you chose them and what could have been done differ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3:10Z</dcterms:created>
  <dc:creator>fcps</dc:creator>
  <dc:description/>
  <dc:language>en-US</dc:language>
  <cp:lastModifiedBy>FCPS</cp:lastModifiedBy>
  <dcterms:modified xsi:type="dcterms:W3CDTF">2013-03-26T17:31:55Z</dcterms:modified>
  <cp:revision>20</cp:revision>
  <dc:subject/>
  <dc:title>Making it Work for You and Your Students</dc:title>
</cp:coreProperties>
</file>